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501-D177-4F11-AF5A-4E236D56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76F-71F2-442F-B076-D7763C3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1C5-CEC3-4E76-A718-AD07B2C8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1B5-3A95-4825-82EB-B6A324AE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197-B33F-42E9-A876-0C2BD49B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2CC-EF34-4043-BA50-02F7E886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EE5-52CA-4E58-AB94-AC928036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E1A-0DF7-4599-B1DD-73F85B2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98B-1D53-440D-A9F1-225477E7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7DF-2CF1-4180-B5B3-54260A03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D10-4CCF-4277-BC0C-83F7758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4F4E-81B2-4854-BDA6-BCAEC35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035-A9FC-483C-8EED-F61522FC8F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46520" cy="2667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692280"/>
            <a:ext cx="55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Miss Thomas yn mynd ar ei gwyliau i wlad arbennig o’r enw Pentyrch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7385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yn mynd mae angen newid ei arian (sydd mewn £) i arian gwlad Pentyrch, sef Bets (B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97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Miss Thomas eisiau TRAWSNEWID (convert) Bets (B) i bunnoedd (£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71640" y="1268280"/>
          <a:ext cx="6912000" cy="1728720"/>
        </p:xfrm>
        <a:graphic>
          <a:graphicData uri="http://schemas.openxmlformats.org/drawingml/2006/table">
            <a:tbl>
              <a:tblPr/>
              <a:tblGrid>
                <a:gridCol w="787680"/>
                <a:gridCol w="1487520"/>
                <a:gridCol w="1487520"/>
                <a:gridCol w="1487160"/>
                <a:gridCol w="1662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£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53964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allwn cwblhau tabl yn gyntaf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28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c yna tynnu graff o’r wyboda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400536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fiwch  - wrth tynnu gr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nsil a phrenmes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i a thei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ddfa synhwyrol a chy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5381" t="1227" r="0" b="1841"/>
          <a:stretch/>
        </p:blipFill>
        <p:spPr>
          <a:xfrm>
            <a:off x="1116000" y="0"/>
            <a:ext cx="712800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84360" y="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ff trawsnewid Bets (B) yn 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634320" y="2802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nnoedd (£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59500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32200" y="4044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67640" y="1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5381" t="1227" r="0" b="1841"/>
          <a:stretch/>
        </p:blipFill>
        <p:spPr>
          <a:xfrm>
            <a:off x="1116000" y="0"/>
            <a:ext cx="7128000" cy="6480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84360" y="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raff trawsnewid Bets (B) yn 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s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634320" y="280296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unnoedd (£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595008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32200" y="40449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189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Miss Thomas yn prynu diod sy’n 1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punt ydy 12B? 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141300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2124000" y="2276640"/>
            <a:ext cx="525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Gr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4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£1.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78136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e gan Miss Thomas 22B ar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ôl ar ddiwedd y gwyli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punt ydy 22B? ....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2000" y="39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£2.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501336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wl B yw £1.75? ........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9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14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7:16:50Z</dcterms:created>
  <dc:creator>Betsan Thomas</dc:creator>
  <dc:description/>
  <dc:language>en-US</dc:language>
  <cp:lastModifiedBy>Betsan Wyn Thomas</cp:lastModifiedBy>
  <dcterms:modified xsi:type="dcterms:W3CDTF">2008-01-13T17:25:25Z</dcterms:modified>
  <cp:revision>3</cp:revision>
  <dc:subject/>
  <dc:title>Slide 1</dc:title>
</cp:coreProperties>
</file>